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410080" y="4724280"/>
            <a:ext cx="3733920" cy="213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on Final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in to the Wiki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each classmate’s final project on his/her wiki page from the Session 9 lin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erson’s assignment, click on the discussion tab and leave comments tha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things they did we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your suggestions for chan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If you have any questions, ple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 person who created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work – Credi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tle of Experi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Teaching: 2 Teach Will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jor Content Emph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pecial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SDE 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9-10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ASE ADD your school in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right hand corner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- Scan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“school” 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-Teaching: 2 Teach Will R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“student number” 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DE #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9-10-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“grade” 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eac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Kelly Kir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nk Evaluation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evaluate your growth about the topics listed (rate 1 to 5) and answer the open-ended questions at the bottom of th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3:10Z</dcterms:created>
  <dc:creator>fcps</dc:creator>
  <dc:description/>
  <dc:language>en-US</dc:language>
  <cp:lastModifiedBy>fcps</cp:lastModifiedBy>
  <dcterms:modified xsi:type="dcterms:W3CDTF">2010-05-12T16:53:20Z</dcterms:modified>
  <cp:revision>24</cp:revision>
  <dc:subject/>
  <dc:title>Making it Work for You and Your Students</dc:title>
</cp:coreProperties>
</file>